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A29D-9ACB-429D-B6A2-C7057296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FCC0-8BD3-4D53-8CCF-B5B954F2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6E14-EC85-41E1-A698-8634CA3B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7415-C56B-45D8-B25C-160DFC70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EC51-CD89-4A35-A0C9-15FB2B79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5D08-F9A0-4503-8680-3D1237F3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3108-9DB1-4DF8-B41D-99E01A09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7D3C-6FF0-486E-AAAD-948A7279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D785-2FC7-431F-8E58-6FC91BB5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8FE7-3791-4146-99FF-941CD91D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0712-C8A8-4906-8CDC-9DBA5450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A4F4-6E70-40F4-BE26-2B5E7276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D470-DE18-4B6F-808C-5497AE03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2955-8F2D-409D-9900-27F32445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9AD7-C89A-4D08-8021-F22A5533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D6FB-9D5C-4A68-A4C8-8CF33783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04FA-21EE-4946-A4B1-5CA2A91F3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5D2A-7B65-42AE-8983-E6F89BA4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3C3D-FE8F-4EAA-92AF-52839991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5096-E81F-4E4E-AF4F-802A7C93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4AF4-3E15-437F-861E-CDDB3D64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A7B6-ECBC-45F8-B0DF-EDA53201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CE6E-EE8A-40F5-813A-E2BD5711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75CE-B608-4F90-BE69-D5FF7CC4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bf1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9D63-ED8C-41FE-B083-2818D5CC9A5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ffb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b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bf1f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F206-9682-41B3-97A9-56DBBCE7645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ffb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ffbf1f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bf1f"/>
                </a:solidFill>
                <a:latin typeface="Garamond"/>
              </a:rPr>
              <a:t>EFFECTS OF EUROPEAN COLONIALISM ON AFRICA</a:t>
            </a:r>
            <a:endParaRPr b="0" lang="en-US" sz="52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African Perspective – Negative con’t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uropeans divided Africa with no regard to groups and cultur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legitimacy of traditional African practices was undermined.  (There was nothing wrong with African culture to begin with!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f1f"/>
                </a:solidFill>
                <a:latin typeface="Garamond"/>
              </a:rPr>
              <a:t>EUROPEAN PERSPECITVE</a:t>
            </a:r>
            <a:br>
              <a:rPr sz="4000"/>
            </a:br>
            <a:r>
              <a:rPr b="0" lang="en-US" sz="4000" spc="-1" strike="noStrike">
                <a:solidFill>
                  <a:srgbClr val="ffbf1f"/>
                </a:solidFill>
                <a:latin typeface="Garamond"/>
              </a:rPr>
              <a:t>POSITIVE</a:t>
            </a:r>
            <a:endParaRPr b="0" lang="en-US" sz="40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lonies provided Europe with strategic military and economic advantag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urope received minerals and other natural resources from colonies, which fed the Industrial Revolution in Europ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f1f"/>
                </a:solidFill>
                <a:latin typeface="Garamond"/>
              </a:rPr>
              <a:t>European Perspective – Positive con’t</a:t>
            </a:r>
            <a:endParaRPr b="0" lang="en-US" sz="40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ny Africans were converted to Christianit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uropeans had access to cheap labor sourc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urope developed trade relationships with Afric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f1f"/>
                </a:solidFill>
                <a:latin typeface="Garamond"/>
              </a:rPr>
              <a:t>EUROPEAN PERSPECTIVE</a:t>
            </a:r>
            <a:br>
              <a:rPr sz="4000"/>
            </a:br>
            <a:r>
              <a:rPr b="0" lang="en-US" sz="4000" spc="-1" strike="noStrike">
                <a:solidFill>
                  <a:srgbClr val="ffbf1f"/>
                </a:solidFill>
                <a:latin typeface="Garamond"/>
              </a:rPr>
              <a:t>NEUTRAL</a:t>
            </a:r>
            <a:endParaRPr b="0" lang="en-US" sz="40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few Africans were granted French citizenship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uropeans spent money to establish “basics” of society like government and judicial system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f1f"/>
                </a:solidFill>
                <a:latin typeface="Garamond"/>
              </a:rPr>
              <a:t>EUROPEAN PERSPECTIVE</a:t>
            </a:r>
            <a:br>
              <a:rPr sz="4000"/>
            </a:br>
            <a:r>
              <a:rPr b="0" lang="en-US" sz="4000" spc="-1" strike="noStrike">
                <a:solidFill>
                  <a:srgbClr val="ffbf1f"/>
                </a:solidFill>
                <a:latin typeface="Garamond"/>
              </a:rPr>
              <a:t>NEGATIVE</a:t>
            </a:r>
            <a:endParaRPr b="0" lang="en-US" sz="40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uropean powers had to fight against rebellion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lonial rule in many places, especially the Congo, was morally repugnant.  (That means it just wasn’t right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f1f"/>
                </a:solidFill>
                <a:latin typeface="Garamond"/>
              </a:rPr>
              <a:t>AFRICAN PERSPECTIVE</a:t>
            </a:r>
            <a:br>
              <a:rPr sz="4000"/>
            </a:br>
            <a:r>
              <a:rPr b="0" lang="en-US" sz="4000" spc="-1" strike="noStrike">
                <a:solidFill>
                  <a:srgbClr val="ffbf1f"/>
                </a:solidFill>
                <a:latin typeface="Garamond"/>
              </a:rPr>
              <a:t>POSITIVE</a:t>
            </a:r>
            <a:endParaRPr b="0" lang="en-US" sz="40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uropean powers somewhat improved transportation and communication infrastructures, health facilities, housing and educa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fricans learned some things about market economic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fricans educated abroad came back and helped their countri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f1f"/>
                </a:solidFill>
                <a:latin typeface="Garamond"/>
              </a:rPr>
              <a:t>AFRICAN PERSPECTIVE</a:t>
            </a:r>
            <a:br>
              <a:rPr sz="4000"/>
            </a:br>
            <a:r>
              <a:rPr b="0" lang="en-US" sz="4000" spc="-1" strike="noStrike">
                <a:solidFill>
                  <a:srgbClr val="ffbf1f"/>
                </a:solidFill>
                <a:latin typeface="Garamond"/>
              </a:rPr>
              <a:t>NEUTRAL</a:t>
            </a:r>
            <a:endParaRPr b="0" lang="en-US" sz="40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ssionaries came to Afric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few Africans were granted French citizenship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uropeans made transportation links and trade routes between Africa and Europ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f1f"/>
                </a:solidFill>
                <a:latin typeface="Garamond"/>
              </a:rPr>
              <a:t>AFRICAN PERSPECTIVE</a:t>
            </a:r>
            <a:br>
              <a:rPr sz="4000"/>
            </a:br>
            <a:r>
              <a:rPr b="0" lang="en-US" sz="4000" spc="-1" strike="noStrike">
                <a:solidFill>
                  <a:srgbClr val="ffbf1f"/>
                </a:solidFill>
                <a:latin typeface="Garamond"/>
              </a:rPr>
              <a:t>NEGATIVE</a:t>
            </a:r>
            <a:endParaRPr b="0" lang="en-US" sz="40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fricans had to fight against colonial powe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uropean settlers appropriated (took) good land, taking it away from African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Africans were forced into hard labor for low wag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fricans lost control over natural resourc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African Perspective – Negative con’t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ny African leaders were removed from powe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fricans were not properly prepared for independenc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8:07:19Z</dcterms:created>
  <dc:creator>Cincinnati Public Schools</dc:creator>
  <dc:description/>
  <dc:language>en-US</dc:language>
  <cp:lastModifiedBy>Cincinnati Public Schools</cp:lastModifiedBy>
  <dcterms:modified xsi:type="dcterms:W3CDTF">2011-10-12T19:54:59Z</dcterms:modified>
  <cp:revision>3</cp:revision>
  <dc:subject/>
  <dc:title>Slide 1</dc:title>
</cp:coreProperties>
</file>